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 Box 6"/>
          <p:cNvSpPr/>
          <p:nvPr/>
        </p:nvSpPr>
        <p:spPr>
          <a:xfrm>
            <a:off x="1523880" y="5568840"/>
            <a:ext cx="624852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babe3"/>
                </a:solidFill>
                <a:latin typeface="Comic Sans MS"/>
              </a:rPr>
              <a:t>Nathan Hale H.S. </a:t>
            </a:r>
            <a:r>
              <a:rPr b="1" lang="en-US" sz="2400" spc="-1" strike="noStrike">
                <a:solidFill>
                  <a:srgbClr val="ababe3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ababe3"/>
                </a:solidFill>
                <a:latin typeface="Comic Sans MS"/>
              </a:rPr>
              <a:t>West Allis, 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WordArt 12"/>
          <p:cNvSpPr txBox="1"/>
          <p:nvPr/>
        </p:nvSpPr>
        <p:spPr>
          <a:xfrm>
            <a:off x="1981080" y="762120"/>
            <a:ext cx="52578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7a1f00"/>
                  </a:outerShdw>
                </a:effectLst>
                <a:latin typeface="BlackChancery"/>
              </a:rPr>
              <a:t>The Congress</a:t>
            </a:r>
            <a:endParaRPr b="0" lang="en-US" sz="1800" spc="1" strike="noStrike">
              <a:ln w="19080">
                <a:solidFill>
                  <a:srgbClr val="cc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7a1f00"/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7a1f00"/>
                  </a:outerShdw>
                </a:effectLst>
                <a:latin typeface="BlackChancery"/>
              </a:rPr>
              <a:t>of</a:t>
            </a:r>
            <a:endParaRPr b="0" lang="en-US" sz="1800" spc="1" strike="noStrike">
              <a:ln w="19080">
                <a:solidFill>
                  <a:srgbClr val="cc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7a1f00"/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7a1f00"/>
                  </a:outerShdw>
                </a:effectLst>
                <a:latin typeface="BlackChancery"/>
              </a:rPr>
              <a:t>Vienna</a:t>
            </a:r>
            <a:endParaRPr b="0" lang="en-US" sz="1800" spc="1" strike="noStrike">
              <a:ln w="19080">
                <a:solidFill>
                  <a:srgbClr val="cc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7a1f00"/>
                </a:outerShdw>
              </a:effectLst>
              <a:latin typeface="BlackChancery"/>
              <a:ea typeface="BlackChance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280" y="76320"/>
            <a:ext cx="8839440" cy="8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acaee"/>
                </a:solidFill>
                <a:latin typeface="BlackChancery"/>
              </a:rPr>
              <a:t>Changes Made at Vienna (2)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33520" y="990720"/>
            <a:ext cx="83055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Norway and Sweden were joi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e neutrality of Switzerland was guarante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Hanover was enlarged, and made a kingdo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ritain was given Cape Colony, South Africa, and various other colonies in Africa and As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ardinia was given Piedmont, Nice, Savoy, and Geno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e Bourbon Ferdinand I was restored in the Two Sicil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e Duchy of Parma was given to Austria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e slave trade was condemned (at British urging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reedom of navigation was guaranteed for many riv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76320"/>
            <a:ext cx="883944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acaee"/>
                </a:solidFill>
                <a:latin typeface="BlackChancery"/>
              </a:rPr>
              <a:t>Europe After the Congress of Vienn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map-Europe after the Congress of Vienna, 1815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65160" y="990720"/>
            <a:ext cx="7340760" cy="56894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1" name="AutoShape 4">
            <a:hlinkClick r:id="rId2" action="ppaction://hlinksldjump"/>
          </p:cNvPr>
          <p:cNvSpPr/>
          <p:nvPr/>
        </p:nvSpPr>
        <p:spPr>
          <a:xfrm>
            <a:off x="85345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lackChancery"/>
              </a:rPr>
              <a:t>Concert of Europe (1815-1850’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Black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BlackChancery"/>
              </a:rPr>
              <a:t>Series of arrangements to enforce the status quo as defined by Congress of Vi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BlackChanc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BlackChancery"/>
              </a:rPr>
              <a:t>Highly conser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BlackChanc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BlackChancery"/>
              </a:rPr>
              <a:t>Crusade against liberalism and na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BlackChancery"/>
              </a:rPr>
              <a:t>(1)  </a:t>
            </a:r>
            <a:r>
              <a:rPr b="0" lang="en-US" sz="3200" spc="-1" strike="noStrike">
                <a:solidFill>
                  <a:srgbClr val="99cc00"/>
                </a:solidFill>
                <a:latin typeface="BlackChancery"/>
              </a:rPr>
              <a:t>Quadruple Alliance</a:t>
            </a:r>
            <a:r>
              <a:rPr b="0" lang="en-US" sz="3200" spc="-1" strike="noStrike">
                <a:solidFill>
                  <a:srgbClr val="bbe0e3"/>
                </a:solidFill>
                <a:latin typeface="BlackChancery"/>
              </a:rPr>
              <a:t>:  Russia, Prussia, Austria, and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BlackChanc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BlackChancery"/>
              </a:rPr>
              <a:t>Concerted action against any threat to peace or 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BlackChanc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BlackChancery"/>
              </a:rPr>
              <a:t>France usually seen as possible viol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lackChancery"/>
              </a:rPr>
              <a:t>Concert of Europe (1815-1850’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BlackChancery"/>
              </a:rPr>
              <a:t>(2)  Congress System</a:t>
            </a:r>
            <a:r>
              <a:rPr b="0" lang="en-US" sz="3200" spc="-1" strike="noStrike">
                <a:solidFill>
                  <a:srgbClr val="bbe0e3"/>
                </a:solidFill>
                <a:latin typeface="BlackChancery"/>
              </a:rPr>
              <a:t>: European relations controlled by series of meetings held by great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BlackChanc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BlackChancery"/>
              </a:rPr>
              <a:t>In 1822, Britain withdrew effectively killing the Congres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BlackChancery"/>
              </a:rPr>
              <a:t>(3)  </a:t>
            </a:r>
            <a:r>
              <a:rPr b="0" lang="en-US" sz="3200" spc="-1" strike="noStrike">
                <a:solidFill>
                  <a:srgbClr val="99cc00"/>
                </a:solidFill>
                <a:latin typeface="BlackChancery"/>
              </a:rPr>
              <a:t>Holy Alliance</a:t>
            </a:r>
            <a:r>
              <a:rPr b="0" lang="en-US" sz="3200" spc="-1" strike="noStrike">
                <a:solidFill>
                  <a:srgbClr val="bbe0e3"/>
                </a:solidFill>
                <a:latin typeface="BlackChancery"/>
              </a:rPr>
              <a:t>:  proposed by Alexander I (18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BlackChanc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BlackChancery"/>
              </a:rPr>
              <a:t>Proposed all monarchs sign statement upholding Christian principles of charity and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BlackChanc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BlackChancery"/>
              </a:rPr>
              <a:t>Few took it seriously – especially Brit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371600" y="1063800"/>
            <a:ext cx="670572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cacaee"/>
                </a:solidFill>
                <a:latin typeface="BlackChancery"/>
              </a:rPr>
              <a:t>What was the legacy of the Congress of Vienna?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2"/>
          <p:cNvSpPr/>
          <p:nvPr/>
        </p:nvSpPr>
        <p:spPr>
          <a:xfrm>
            <a:off x="152280" y="76320"/>
            <a:ext cx="883944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acaee"/>
                </a:solidFill>
                <a:latin typeface="BlackChancery"/>
              </a:rPr>
              <a:t>Europe in 181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4" descr="map-Napoleon’s Empire at Its Height, 181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092240" y="882720"/>
            <a:ext cx="7137360" cy="5816520"/>
          </a:xfrm>
          <a:prstGeom prst="rect">
            <a:avLst/>
          </a:prstGeom>
          <a:ln w="0">
            <a:noFill/>
          </a:ln>
        </p:spPr>
      </p:pic>
      <p:sp>
        <p:nvSpPr>
          <p:cNvPr id="40" name="AutoShape 5">
            <a:hlinkClick r:id="rId2" action="ppaction://hlinksldjump"/>
          </p:cNvPr>
          <p:cNvSpPr/>
          <p:nvPr/>
        </p:nvSpPr>
        <p:spPr>
          <a:xfrm>
            <a:off x="845820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349200"/>
            <a:ext cx="8839440" cy="16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acaee"/>
                </a:solidFill>
                <a:latin typeface="BlackChancery"/>
              </a:rPr>
              <a:t>Main Objectives = Conservatism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1828800"/>
            <a:ext cx="8001000" cy="427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ad20c"/>
              </a:buClr>
              <a:buFont typeface="Monarchbat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It’s job was to undo everything that Napoléon had do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01400">
              <a:lnSpc>
                <a:spcPct val="100000"/>
              </a:lnSpc>
              <a:spcBef>
                <a:spcPts val="1624"/>
              </a:spcBef>
              <a:buClr>
                <a:srgbClr val="ff9f9f"/>
              </a:buClr>
              <a:buFont typeface="DavysOtherDingbats"/>
              <a:buChar char="V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Reduce France to its old boundaries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her frontiers were pushed back to 1790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01400">
              <a:lnSpc>
                <a:spcPct val="100000"/>
              </a:lnSpc>
              <a:spcBef>
                <a:spcPts val="1624"/>
              </a:spcBef>
              <a:buClr>
                <a:srgbClr val="ff9f9f"/>
              </a:buClr>
              <a:buFont typeface="DavysOtherDingbats"/>
              <a:buChar char="V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Restore as many of the old monarchies as possible that had lost their thrones during the Napoléonic e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ad20c"/>
              </a:buClr>
              <a:buFont typeface="Monarchbat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upported the resolution: </a:t>
            </a:r>
            <a:r>
              <a:rPr b="1" i="1" lang="en-US" sz="2600" spc="-1" strike="noStrike">
                <a:solidFill>
                  <a:srgbClr val="ff9f9f"/>
                </a:solidFill>
                <a:latin typeface="Comic Sans MS"/>
              </a:rPr>
              <a:t>There is always an alternative to conflict</a:t>
            </a:r>
            <a:r>
              <a:rPr b="1" lang="en-US" sz="2600" spc="-1" strike="noStrike">
                <a:solidFill>
                  <a:srgbClr val="ff9f9f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76320"/>
            <a:ext cx="883944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acaee"/>
                </a:solidFill>
                <a:latin typeface="BlackChancery"/>
              </a:rPr>
              <a:t>Key Players </a:t>
            </a:r>
            <a:br>
              <a:rPr sz="5000"/>
            </a:br>
            <a:r>
              <a:rPr b="0" lang="en-US" sz="5000" spc="-1" strike="noStrike">
                <a:solidFill>
                  <a:srgbClr val="cacaee"/>
                </a:solidFill>
                <a:latin typeface="BlackChancery"/>
              </a:rPr>
              <a:t>at Vienn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Tallyrand"/>
          <p:cNvPicPr/>
          <p:nvPr/>
        </p:nvPicPr>
        <p:blipFill>
          <a:blip r:embed="rId1"/>
          <a:stretch/>
        </p:blipFill>
        <p:spPr>
          <a:xfrm>
            <a:off x="6973920" y="4038480"/>
            <a:ext cx="1865160" cy="2590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45" name="Picture 5" descr="Castlereagh"/>
          <p:cNvPicPr/>
          <p:nvPr/>
        </p:nvPicPr>
        <p:blipFill>
          <a:blip r:embed="rId2"/>
          <a:stretch/>
        </p:blipFill>
        <p:spPr>
          <a:xfrm>
            <a:off x="7203960" y="380880"/>
            <a:ext cx="1559160" cy="2286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46" name="Picture 6" descr="Czar Alexander I"/>
          <p:cNvPicPr/>
          <p:nvPr/>
        </p:nvPicPr>
        <p:blipFill>
          <a:blip r:embed="rId3"/>
          <a:stretch/>
        </p:blipFill>
        <p:spPr>
          <a:xfrm>
            <a:off x="465120" y="762120"/>
            <a:ext cx="1744560" cy="20574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47" name="Picture 7" descr="Metternich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3487680" y="1752480"/>
            <a:ext cx="2130480" cy="2819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48" name="Picture 8" descr="Prus-Frederick William III"/>
          <p:cNvPicPr/>
          <p:nvPr/>
        </p:nvPicPr>
        <p:blipFill>
          <a:blip r:embed="rId5"/>
          <a:stretch/>
        </p:blipFill>
        <p:spPr>
          <a:xfrm>
            <a:off x="533520" y="3809880"/>
            <a:ext cx="1658880" cy="2133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49" name="Text Box 9"/>
          <p:cNvSpPr/>
          <p:nvPr/>
        </p:nvSpPr>
        <p:spPr>
          <a:xfrm>
            <a:off x="3333600" y="4648320"/>
            <a:ext cx="2438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he “Host”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Prince Klemens von Metternich (Aus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715000" y="2743200"/>
            <a:ext cx="3276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Foreign Minister,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Viscount Castlereagh (Br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52280" y="2819520"/>
            <a:ext cx="2438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sar Alexander I (Rus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152280" y="5943600"/>
            <a:ext cx="2438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King Frederick William III (Prus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124080" y="6064200"/>
            <a:ext cx="3810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Foreign Minister, Charles Maurice de Tallyrand (Fr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2280" y="76320"/>
            <a:ext cx="8839440" cy="140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acaee"/>
                </a:solidFill>
                <a:latin typeface="BlackChancery"/>
              </a:rPr>
              <a:t>The Congress of Vienna</a:t>
            </a:r>
            <a:br>
              <a:rPr sz="5100"/>
            </a:br>
            <a:r>
              <a:rPr b="0" lang="en-US" sz="3500" spc="-1" strike="noStrike">
                <a:solidFill>
                  <a:srgbClr val="cacaee"/>
                </a:solidFill>
                <a:latin typeface="BlackChancery"/>
              </a:rPr>
              <a:t>(September 1, 1814 – June 9, 1815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ongress of Vienna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1600200"/>
            <a:ext cx="6629400" cy="5013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80880" y="182520"/>
            <a:ext cx="8458200" cy="22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acaee"/>
                </a:solidFill>
                <a:latin typeface="BlackChancery"/>
              </a:rPr>
              <a:t>Coin Commemorating the Opening of the Congress of Vienna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oin commemorating the opening of Congress of Vienna-back"/>
          <p:cNvPicPr/>
          <p:nvPr/>
        </p:nvPicPr>
        <p:blipFill>
          <a:blip r:embed="rId1"/>
          <a:stretch/>
        </p:blipFill>
        <p:spPr>
          <a:xfrm>
            <a:off x="4876920" y="2286000"/>
            <a:ext cx="3733560" cy="3697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8" name="Picture 5" descr="coin commemorating the opening of Congress of Vienna"/>
          <p:cNvPicPr/>
          <p:nvPr/>
        </p:nvPicPr>
        <p:blipFill>
          <a:blip r:embed="rId2"/>
          <a:stretch/>
        </p:blipFill>
        <p:spPr>
          <a:xfrm>
            <a:off x="685800" y="2287440"/>
            <a:ext cx="3733920" cy="3733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2280" y="228600"/>
            <a:ext cx="8839440" cy="15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acaee"/>
                </a:solidFill>
                <a:latin typeface="BlackChancery"/>
              </a:rPr>
              <a:t>Key Principles Established </a:t>
            </a:r>
            <a:br>
              <a:rPr sz="4900"/>
            </a:br>
            <a:r>
              <a:rPr b="0" lang="en-US" sz="4900" spc="-1" strike="noStrike">
                <a:solidFill>
                  <a:srgbClr val="cacaee"/>
                </a:solidFill>
                <a:latin typeface="BlackChancery"/>
              </a:rPr>
              <a:t>at Vienn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14600" y="2133720"/>
            <a:ext cx="4800600" cy="218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>
              <a:lnSpc>
                <a:spcPct val="100000"/>
              </a:lnSpc>
              <a:spcBef>
                <a:spcPts val="2126"/>
              </a:spcBef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Legitima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spcBef>
                <a:spcPts val="2126"/>
              </a:spcBef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Compens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spcBef>
                <a:spcPts val="2126"/>
              </a:spcBef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Balance of Pow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143000" y="4724280"/>
            <a:ext cx="7620120" cy="188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ad20c"/>
              </a:buClr>
              <a:buFont typeface="Monarchbat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Coalition forces would occupy France fo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3-5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ad20c"/>
              </a:buClr>
              <a:buFont typeface="Monarchbat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rance would have to pay an indemnity of 700,000,000 fran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685800" y="1143000"/>
            <a:ext cx="81532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rance was deprived of all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erritory conquered by Napolé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Russia was given most of Duchy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of Warsaw (Polan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Prussia was given half of Saxony, parts of Poland, and other German territo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2600" spc="-1" strike="noStrike">
                <a:solidFill>
                  <a:srgbClr val="ff9f9f"/>
                </a:solidFill>
                <a:latin typeface="Comic Sans MS"/>
              </a:rPr>
              <a:t>Germanic Confederation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of 30+ states (including Prussia) was created from the previous 300, under Austrian rul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Austria was given back territory it had lost recently, plus more in Germany and Ital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e House of Orange was given the Dutch Republic and the Austrian Netherlands to ru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52280" y="152280"/>
            <a:ext cx="8839440" cy="8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acaee"/>
                </a:solidFill>
                <a:latin typeface="BlackChancery"/>
              </a:rPr>
              <a:t>Changes Made at Vienna (1)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ongress of Vienna  doc - Jun 9 1815"/>
          <p:cNvPicPr/>
          <p:nvPr/>
        </p:nvPicPr>
        <p:blipFill>
          <a:blip r:embed="rId1"/>
          <a:stretch/>
        </p:blipFill>
        <p:spPr>
          <a:xfrm>
            <a:off x="6705720" y="914400"/>
            <a:ext cx="213336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152280" y="182520"/>
            <a:ext cx="8991720" cy="152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acaee"/>
                </a:solidFill>
                <a:latin typeface="BlackChancery"/>
              </a:rPr>
              <a:t>The Germanic Confederation, 1815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ap-German Confederation-1815"/>
          <p:cNvPicPr/>
          <p:nvPr/>
        </p:nvPicPr>
        <p:blipFill>
          <a:blip r:embed="rId1"/>
          <a:stretch/>
        </p:blipFill>
        <p:spPr>
          <a:xfrm>
            <a:off x="2328840" y="990720"/>
            <a:ext cx="4834080" cy="5638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14:51:26Z</dcterms:created>
  <dc:creator>Ms. Susan M. Pojer</dc:creator>
  <dc:description/>
  <dc:language>en-US</dc:language>
  <cp:lastModifiedBy>Kuenzi</cp:lastModifiedBy>
  <dcterms:modified xsi:type="dcterms:W3CDTF">2011-02-03T01:54:32Z</dcterms:modified>
  <cp:revision>82</cp:revision>
  <dc:subject/>
  <dc:title>The Congress of Vienna</dc:title>
</cp:coreProperties>
</file>